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8.wmf" ContentType="image/x-wmf"/>
  <Override PartName="/ppt/media/image30.png" ContentType="image/png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6.wmf" ContentType="image/x-wmf"/>
  <Override PartName="/ppt/media/image9.wmf" ContentType="image/x-wmf"/>
  <Override PartName="/ppt/media/image39.wmf" ContentType="image/x-wmf"/>
  <Override PartName="/ppt/media/image13.wmf" ContentType="image/x-wmf"/>
  <Override PartName="/ppt/media/image2.gif" ContentType="image/gif"/>
  <Override PartName="/ppt/media/image41.wmf" ContentType="image/x-wmf"/>
  <Override PartName="/ppt/media/image38.png" ContentType="image/png"/>
  <Override PartName="/ppt/media/image42.wmf" ContentType="image/x-wmf"/>
  <Override PartName="/ppt/media/image32.png" ContentType="image/png"/>
  <Override PartName="/ppt/media/image43.wmf" ContentType="image/x-wmf"/>
  <Override PartName="/ppt/media/image44.png" ContentType="image/png"/>
  <Override PartName="/ppt/media/image4.wmf" ContentType="image/x-wmf"/>
  <Override PartName="/ppt/media/image27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51.wmf" ContentType="image/x-wmf"/>
  <Override PartName="/ppt/media/image40.png" ContentType="image/png"/>
  <Override PartName="/ppt/media/image8.wmf" ContentType="image/x-wmf"/>
  <Override PartName="/ppt/media/image48.wmf" ContentType="image/x-wmf"/>
  <Override PartName="/ppt/media/image11.wmf" ContentType="image/x-wmf"/>
  <Override PartName="/ppt/media/image50.png" ContentType="image/png"/>
  <Override PartName="/ppt/media/image3.wmf" ContentType="image/x-wmf"/>
  <Override PartName="/ppt/media/image33.wmf" ContentType="image/x-wmf"/>
  <Override PartName="/ppt/media/image37.wmf" ContentType="image/x-wmf"/>
  <Override PartName="/ppt/media/image7.wmf" ContentType="image/x-wmf"/>
  <Override PartName="/ppt/media/image49.png" ContentType="image/png"/>
  <Override PartName="/ppt/media/image12.png" ContentType="image/png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8B8C-F58F-4865-B2CD-4893F86A1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DE92-1991-4311-A0A0-52A04F313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5E3C-06B0-4176-BFCB-D44F967A1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B9D0-E9D1-456F-A5C4-2A5E7003F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FD51-FD91-4EF8-92C1-1A709D714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0DD7-3E7F-40D3-97FB-A28C3E992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E0AB-2773-4751-8D1F-171132F3E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39B0-AAE5-4336-A272-2157FB4A2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28B1-5C8A-46E5-8FAA-B42DE4F14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656E-EF96-4A6C-80C8-990E28CC6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034B-1641-4036-A4FB-A517541EF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AFBD-C90C-44D8-8325-83129108D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8A0B-7B56-4BD8-97BD-CFD93720C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1B31-B8D9-4A87-9FA1-9FBEB2EBD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9B5C-B6E9-4C65-A278-3C8F729D1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B7B4-DFE4-4014-A823-7EE25323A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C228-4B4B-4F99-9AB9-6A5C5EC9A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C46A-40EC-468C-B059-DB3F93743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38DA-5E87-4EF2-8E6F-9A7FEC51E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01A4-7712-40F7-93C9-3FC702D76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545F-34E0-4B70-9DD6-88C2C7FA0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CDE0-EE55-4404-AF80-02D1AF076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2282-459F-4D2F-BC73-0D4D5BCDF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CD1D-D969-4122-ACE8-F5642B699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BB3B-BB83-4D08-BABA-AA6ADE604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5108-66A9-46B6-9C67-C9425EF90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F581-22E2-4145-A833-C0F2A8CA8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2AB2-C286-4120-8EEB-D9B63D5EC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62EF-C781-483C-ADB2-BA6653254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8D54-0D60-43AB-80BD-7C5AED090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9CBD-F6EF-424B-B374-F30A2894E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4736-2316-4FB9-AD32-29CC2488A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0E5E-43BD-4303-824C-ACBF3D3CA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3A1A-ACD3-4993-9E54-88B148410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AE37-74B9-41AB-A94F-5400C153C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77B6-32B8-45B4-98BA-DCEAA8205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D85E-8F81-4121-9F29-EE8CFDAA2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B754-8124-4BB3-A104-89F156A9D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F901-4243-4E2B-9260-7A1734DA7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9EAB-2A2D-42FB-93B0-DEB495801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1A8C-B9D4-48D0-8DC4-6D5610EB3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1DC6-454F-4ECD-87D5-0BB3122BD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6617-67E6-4E05-ADAD-3EC5F6EAB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10B0-071D-4BF6-B287-E28D215FD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2AD8-E60B-4D81-9C85-96EBB51A2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76A0-A295-40A5-A4F3-6BC755AC1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0925-1B3D-4010-931A-C6946E9F1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7D7E-3C5C-4516-BC00-D4702D0FA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BC4-7CE8-4273-9EB3-02A6CEB1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4F9-B73C-47E1-AA88-BC396189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443-205F-4182-BF68-4EFF3FC8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5BE-364C-4E59-A56B-9AAB574F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4CF-279C-46AB-84EE-C5431F19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3C3-4618-4CF0-BB91-9A45D943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1BD-96AF-4922-B0A1-3F6960C2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236-6C81-4EF8-B324-816CD286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FA9-7448-42F8-A6FC-24C7D8CA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39D-3BF0-4360-A8FB-A59F2208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C28-1DF4-4A32-BFC4-524C6F43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754-5E74-4FF8-9D6D-6D446769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7C8A-9D5D-4A09-BB18-ADD0D2E48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wmf"/><Relationship Id="rId3" Type="http://schemas.openxmlformats.org/officeDocument/2006/relationships/image" Target="../media/image27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9.wmf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8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0.png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914400" y="914400"/>
            <a:ext cx="601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Are You Smarter Than a 5th Grader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AG00327_"/>
          <p:cNvPicPr/>
          <p:nvPr/>
        </p:nvPicPr>
        <p:blipFill>
          <a:blip r:embed="rId2"/>
          <a:stretch/>
        </p:blipFill>
        <p:spPr>
          <a:xfrm>
            <a:off x="5334120" y="38098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MCj02376190000[1]"/>
          <p:cNvPicPr/>
          <p:nvPr/>
        </p:nvPicPr>
        <p:blipFill>
          <a:blip r:embed="rId3"/>
          <a:stretch/>
        </p:blipFill>
        <p:spPr>
          <a:xfrm>
            <a:off x="2895480" y="3581280"/>
            <a:ext cx="1452600" cy="2421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5260320" y="57150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rs. Kee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2590920" y="762120"/>
            <a:ext cx="3112920" cy="3085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3192840" y="4637160"/>
            <a:ext cx="232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0.2417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2286000" y="838080"/>
            <a:ext cx="363060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2286000" y="838080"/>
            <a:ext cx="3630600" cy="2624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858680" y="4419720"/>
            <a:ext cx="534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1.7908 &lt; 1.879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2895480" y="838080"/>
            <a:ext cx="24498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2895480" y="838080"/>
            <a:ext cx="2449800" cy="2676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3101400" y="4191120"/>
            <a:ext cx="212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24.48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2590920" y="609480"/>
            <a:ext cx="3581280" cy="297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09480" y="4191120"/>
            <a:ext cx="1886040" cy="162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2590920" y="4191120"/>
            <a:ext cx="1944720" cy="1670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4648320" y="4191120"/>
            <a:ext cx="1885680" cy="167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6629400" y="4191120"/>
            <a:ext cx="188604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2590920" y="609480"/>
            <a:ext cx="3581280" cy="297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3352680" y="4191120"/>
            <a:ext cx="1944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2133720" y="914400"/>
            <a:ext cx="480060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2133720" y="914400"/>
            <a:ext cx="4800600" cy="3411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523680" y="4876920"/>
            <a:ext cx="11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/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752480" y="1066680"/>
            <a:ext cx="53247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124440" y="1219320"/>
            <a:ext cx="266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MCj01887110000[1]"/>
          <p:cNvPicPr/>
          <p:nvPr/>
        </p:nvPicPr>
        <p:blipFill>
          <a:blip r:embed="rId2"/>
          <a:stretch/>
        </p:blipFill>
        <p:spPr>
          <a:xfrm>
            <a:off x="3505320" y="2819520"/>
            <a:ext cx="217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752480" y="1066680"/>
            <a:ext cx="5324760" cy="2327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962800" y="4264200"/>
            <a:ext cx="369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4 ounce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315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315200" cy="2514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1293480" y="4343400"/>
            <a:ext cx="639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7 hours and 29 minu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5329440" cy="453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2347920" cy="3154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4876920" y="1523880"/>
            <a:ext cx="2692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2819520" y="3276720"/>
            <a:ext cx="2622600" cy="277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1752480" y="685800"/>
            <a:ext cx="532944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5334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5334120" cy="2692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009800" y="5486400"/>
            <a:ext cx="69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intersects the center of the circ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447920" y="0"/>
            <a:ext cx="6321240" cy="223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1676520" y="2209680"/>
            <a:ext cx="5630760" cy="44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4"/>
          <a:stretch/>
        </p:blipFill>
        <p:spPr>
          <a:xfrm>
            <a:off x="4800600" y="2666880"/>
            <a:ext cx="3498840" cy="180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5"/>
          <a:stretch/>
        </p:blipFill>
        <p:spPr>
          <a:xfrm>
            <a:off x="533520" y="4495680"/>
            <a:ext cx="3728880" cy="1871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6"/>
          <a:stretch/>
        </p:blipFill>
        <p:spPr>
          <a:xfrm>
            <a:off x="4800600" y="4572000"/>
            <a:ext cx="3557520" cy="1871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7"/>
          <a:stretch/>
        </p:blipFill>
        <p:spPr>
          <a:xfrm>
            <a:off x="609480" y="2666880"/>
            <a:ext cx="361476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6321240" cy="223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3728880" cy="1871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4"/>
          <a:stretch/>
        </p:blipFill>
        <p:spPr>
          <a:xfrm>
            <a:off x="1447920" y="2971800"/>
            <a:ext cx="563076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2438280" y="304920"/>
            <a:ext cx="3845160" cy="397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3"/>
          <a:stretch/>
        </p:blipFill>
        <p:spPr>
          <a:xfrm>
            <a:off x="1219320" y="4419720"/>
            <a:ext cx="67816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3464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62499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2666880" y="609480"/>
            <a:ext cx="3845160" cy="39751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2786040" y="5105520"/>
            <a:ext cx="395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40 student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2438280" y="685800"/>
            <a:ext cx="3845160" cy="237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7667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2438280" y="685800"/>
            <a:ext cx="3845160" cy="2376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2017440" y="4124160"/>
            <a:ext cx="54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9 is the mean or aver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2743200" y="609480"/>
            <a:ext cx="3268800" cy="1684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2133720" y="2362320"/>
            <a:ext cx="4708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2209680" y="685800"/>
            <a:ext cx="4708800" cy="3959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2209680" y="4952880"/>
            <a:ext cx="45943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1676520" y="685800"/>
            <a:ext cx="5227560" cy="2433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3"/>
          <a:stretch/>
        </p:blipFill>
        <p:spPr>
          <a:xfrm>
            <a:off x="1905120" y="3581280"/>
            <a:ext cx="48243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1676520" y="685800"/>
            <a:ext cx="5227560" cy="2433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3421440" y="4108320"/>
            <a:ext cx="133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3/8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1905120" y="457200"/>
            <a:ext cx="4305240" cy="1743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1981080" y="2209680"/>
            <a:ext cx="4535640" cy="849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609480" y="3276720"/>
            <a:ext cx="3672000" cy="1065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5"/>
          <a:stretch/>
        </p:blipFill>
        <p:spPr>
          <a:xfrm>
            <a:off x="609480" y="4495680"/>
            <a:ext cx="2692440" cy="1757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6"/>
          <a:stretch/>
        </p:blipFill>
        <p:spPr>
          <a:xfrm>
            <a:off x="4724280" y="3124080"/>
            <a:ext cx="3384720" cy="1195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7"/>
          <a:stretch/>
        </p:blipFill>
        <p:spPr>
          <a:xfrm>
            <a:off x="5181480" y="4351320"/>
            <a:ext cx="2578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1981080" y="1143000"/>
            <a:ext cx="4305600" cy="1743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3"/>
          <a:stretch/>
        </p:blipFill>
        <p:spPr>
          <a:xfrm>
            <a:off x="2971800" y="3200400"/>
            <a:ext cx="25779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67244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2727360" y="25002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6249960" cy="2305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2512800" y="4191120"/>
            <a:ext cx="405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About 5,000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6724440" cy="1743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3"/>
          <a:stretch/>
        </p:blipFill>
        <p:spPr>
          <a:xfrm>
            <a:off x="2666880" y="3886200"/>
            <a:ext cx="294012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1181160" y="1389240"/>
            <a:ext cx="678168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3657600" y="5029200"/>
            <a:ext cx="1519200" cy="106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678168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7905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678240" y="838080"/>
            <a:ext cx="750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-5 =  could be solved with this sentenc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dd is 5 years younger than Amelia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A is Amelia’s age in years, how old 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d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2"/>
          <a:stretch/>
        </p:blipFill>
        <p:spPr>
          <a:xfrm>
            <a:off x="1523880" y="838080"/>
            <a:ext cx="5789880" cy="1873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76960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1584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696440" cy="16840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3536280" y="40384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27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914400" y="914400"/>
            <a:ext cx="601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Are You Smarter Than a 5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 Grader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AG00327_"/>
          <p:cNvPicPr/>
          <p:nvPr/>
        </p:nvPicPr>
        <p:blipFill>
          <a:blip r:embed="rId2"/>
          <a:stretch/>
        </p:blipFill>
        <p:spPr>
          <a:xfrm>
            <a:off x="5334120" y="38098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MCj02376190000[1]"/>
          <p:cNvPicPr/>
          <p:nvPr/>
        </p:nvPicPr>
        <p:blipFill>
          <a:blip r:embed="rId3"/>
          <a:stretch/>
        </p:blipFill>
        <p:spPr>
          <a:xfrm>
            <a:off x="2895480" y="3581280"/>
            <a:ext cx="14526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1371600" y="838080"/>
            <a:ext cx="61228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371600" y="838080"/>
            <a:ext cx="6122880" cy="2168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872800" y="3951360"/>
            <a:ext cx="246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9 x 1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848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848360" cy="1981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283560" y="3646440"/>
            <a:ext cx="114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2.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ed00217_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2590920" y="762120"/>
            <a:ext cx="31129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4:02:04Z</dcterms:created>
  <dc:creator>ellbenegar</dc:creator>
  <dc:description/>
  <dc:language>en-US</dc:language>
  <cp:lastModifiedBy>LK</cp:lastModifiedBy>
  <dcterms:modified xsi:type="dcterms:W3CDTF">2011-02-24T13:20:05Z</dcterms:modified>
  <cp:revision>55</cp:revision>
  <dc:subject/>
  <dc:title>Slide 1</dc:title>
</cp:coreProperties>
</file>